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08E9-084A-4552-9461-5F5194C6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5125-9D86-425B-9F7B-70D622CE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9595-CC56-4055-9740-D20688E5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BE30-85C9-4320-9300-C88937C6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771E-7489-4348-B826-82491650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C6E6-8FB5-4902-AC5A-BB983EEF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E220-B63D-4EAD-BB61-1A2DC19D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C6A9-3119-43A2-AEF6-79C47A50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819-2C81-494A-A0AF-3BDD1EE9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A084-10A5-43AA-831E-1BB87328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1DF4-39B1-4458-A9C1-B4927CC4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66B1-82DA-491D-8220-5284AC7C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EF98-E727-4EA9-97AC-820DCB9F22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rwick Area High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ent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United 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and represent a country in a role play debate of contemporary world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and guided research, written position papers, public speaking/debate, “diplomac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hops (fall) &amp; MUN Conference (spring) held at Bloomsburg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-curricular cl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announcements, late fall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ve problem solving compe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K-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ember team, student developed           skit performance &amp; spontane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ong-term problem)               - (short term probl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tion held in early M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team by Nov./D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724280" y="2133720"/>
            <a:ext cx="3962520" cy="51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OOT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ifted Worksho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Placement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academic rigor &amp; pacing in content areas and the opportunity for college cred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11, 12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 (11 &amp; 12), Am. History, Sciences, L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ed, responsible, independent learners, AP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 1.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lication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recommendation / scre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al Enroll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in college course taken during the HS day – on campus, on-line, distance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11, 12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in college credit (6), discounted tu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BHS credit, weighted by1.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fted Education &amp; Talent Development at B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Bruce Guen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wick Area High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m 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59 – 6400 x31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7e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39"/>
                </a:solidFill>
                <a:latin typeface="Times New Roman"/>
              </a:rPr>
              <a:t>bguenther@berwicksd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ww.bhsgifted.wikispace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Honors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Independent Study Project (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4724280" y="2133720"/>
            <a:ext cx="3962520" cy="51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OOT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ifted Worksho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Honors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academic rigor &amp; pacing in content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ed, responsible, independent lear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, History, World Language, Math,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 1.0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 recommendation /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pendent Study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tor and teacher supported research in area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paper, log and formal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fills grad. project requirement for 2010 and 2011 only.  2012 &amp; 2013 have new requir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1.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equest and written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GIEP or early 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Advanced Research in Medicine (A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724280" y="2133720"/>
            <a:ext cx="396252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OOT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ifted Worksho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7246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interact with a professional &amp; experience their occupational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a “log”, complete evaluation es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area of interest (see next sl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for 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tudent/parent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time of year including su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adowing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 of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8-2009 Job shad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esthesiology, Chiropractic, Culinary Arts, Dance, Dentistry, Elementary Education, Meteorology, Music Education, Pharmacy, Photography, Veterin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Research in Medi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entor and teacher supported, independent research within the medical field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cl. Veterin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earch paper, log and formal presen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 credit, weighted by 1.0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ptions for 1.01 or 1.06 als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ience teacher recommend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r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summer start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ru Septemb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fall sta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del United Nations (M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724280" y="2133720"/>
            <a:ext cx="3962520" cy="51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Odyssey of the Mi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(OOT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ifted Worksho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21:30:46Z</dcterms:created>
  <dc:creator>Christine Guenther</dc:creator>
  <dc:description/>
  <dc:language>en-US</dc:language>
  <cp:lastModifiedBy>bguenther</cp:lastModifiedBy>
  <dcterms:modified xsi:type="dcterms:W3CDTF">2009-08-17T21:22:28Z</dcterms:modified>
  <cp:revision>22</cp:revision>
  <dc:subject/>
  <dc:title>Berwick Area High School</dc:title>
</cp:coreProperties>
</file>